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E67-EB49-48A7-AF45-07BB7C90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2DD9-7B57-424C-8047-FA80C95B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2777-7E67-46FB-88C7-7FD64FCF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2568-7C51-4576-A457-6764412F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D31B-D941-43C8-80A1-38E86669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568E-0F8C-45E7-9DCD-9306B062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12B0-CA04-4498-8699-BED2437D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C6C4-2D7B-49EE-A361-DC95A7DE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0F29-D1FD-42CE-8FB6-C0629C72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BD76-3A93-4871-A701-0AC521D8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C560-3F9E-4782-AA52-937D20D0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C691-4772-4115-AD13-1EAA18DF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83E-D63A-4164-B45B-896AD8C3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EF344-8C09-4862-B79E-822429EC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AC21-224B-4223-91A9-1EE52A9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B04A-FCDB-4FB8-A52D-7B586980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476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651200"/>
            <a:ext cx="24778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EA8-851C-4E8E-8129-2C2A0E71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3B8-ACC0-417D-98B9-B658BA46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1C7A-27DD-40E0-840E-91C19EB6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A63-5F6C-4885-A3A4-F43859FF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682-6D7A-4C02-9CCF-BF8C394E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A87-E1C2-4F5B-A1F3-5A86DC70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65120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A0F4-E119-41E2-92FB-7BF8900F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4760"/>
            <a:ext cx="37555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651200"/>
            <a:ext cx="76960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86BE-7160-4A37-8554-144FA68E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4CF6-1CAF-48C1-A978-6D07435C2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0049-8831-465B-80C9-D8E83495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6666"/>
                </a:solidFill>
                <a:latin typeface="Tahoma"/>
              </a:rPr>
              <a:t>Chapter 23</a:t>
            </a:r>
            <a:br>
              <a:rPr sz="4100"/>
            </a:br>
            <a:r>
              <a:rPr b="0" lang="en-US" sz="4100" spc="-1" strike="noStrike">
                <a:solidFill>
                  <a:srgbClr val="336666"/>
                </a:solidFill>
                <a:latin typeface="Tahoma"/>
              </a:rPr>
              <a:t>FROM ROOSEVELT TO WILSON IN THE AGE OF PROGRESSIVISM</a:t>
            </a:r>
            <a:endParaRPr b="0" lang="en-US" sz="41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523880" y="3657600"/>
            <a:ext cx="601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America Past and Pres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ighth Edi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vine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Breen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Fredrickson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Williams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Gross  </a:t>
            </a:r>
            <a:r>
              <a:rPr b="0" lang="en-US" sz="2300" spc="-1" strike="noStrike">
                <a:solidFill>
                  <a:srgbClr val="000000"/>
                </a:solidFill>
                <a:latin typeface="Wingdings 2"/>
                <a:ea typeface="Wingdings 2"/>
              </a:rPr>
              <a:t>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Bran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 Ferment of Ideas: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hallenging the Status Quo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s, pragmatists, measure value of ideas by actions they inspi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ject social Darwin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ohn Dewey: Education should stress personal growth, free inquiry, creativi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Judge Lindsey, Louis Brandies and “Sociological Jurisprudence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 Ferment of Ideas: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hallenging the Status Quo (2)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1: Socialist party formed uniting  intellectuals, factory workers, tenant farmers, miners, lumberjac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y 1911, 32 cities have Socialist may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mises Progressive reform rather than overthrow of capital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2: Socialist presidential candidate Eugene Debs polls over 900,000 vo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7724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form in the Cities and Stat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s wanted government to follow the public wil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 govern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organize for efficiency, effectiv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agencies address particular social 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s staffed with expe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overnment power extended at all leve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Interest Groups and the Decline of Popular Politic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cline in voter particip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7% from 1876–19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5% from 1900–19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2% in the 1920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mained near 52% through 2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rest groups got favorable legislation through lobby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Voter Participation in Presidential Elections, 1876–1920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40" name="Picture 6" descr="DIVI482"/>
          <p:cNvPicPr/>
          <p:nvPr/>
        </p:nvPicPr>
        <p:blipFill>
          <a:blip r:embed="rId1"/>
          <a:stretch/>
        </p:blipFill>
        <p:spPr>
          <a:xfrm>
            <a:off x="2666880" y="1828800"/>
            <a:ext cx="372456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form in the Citi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5960" y="1981080"/>
            <a:ext cx="74106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rban reform leagues formed professional, nonpolitical civil ser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ointed commissioners replaced elected officials in many citi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ity manager idea spre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 mayor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m Johnson of Clevela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Golden Rule" Jones of Tole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ction in the Stat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5960" y="198108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regulatory commissions created to investigate business con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ive, referendum, and recall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3 states used primary elections by 19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13: Seventeenth Amendment provided for direct election of U.S. se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Action in the States: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form Governors 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bert La Follette of Wisconsi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sconsin Idea” tapped experts in higher education for help in sweeping refor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ther Progressive governo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seph Folk of Missou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ram Johnson of Califor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les Evans Hughes of New Y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odrow Wilson of New Jers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Republican Roosevel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ften defied conven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rought an exuberance to the presidenc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rrounded himself with able associa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Spirit of Progressiv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essivism not a coherent movement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red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 about effects of industr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timistic about human nature and potential for pro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lling to intervene in others lives, either private charity or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se of evangelical Protestant duty and faith in the benefits of sc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itment to improve all aspects of American li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Busting the Trus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2: Wave of trust-busting led by suit against Northern Securities Compan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4: Northern Securities dissolv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reputed a "trust-buster"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mparatively few antitrust cases under Roosevelt, Taft did almost twice as many in half the ti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414680" cy="5562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384192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"Square Deal" in the Coalfield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2: United Mine Workers strike in Pennsylvania threatened U.S. econom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.M.W., companies to White Hou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won company concessions by threatening military seizure of min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acted as broker of interest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1676520" y="299880"/>
            <a:ext cx="56386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oosevelt Progressivism at Its Heigh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4—A four-way e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ublican—Theodore Rooseve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crat—Alton B. Par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ist—Eugene V. De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hibition—Silas C. Swal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 won 57% of popular vote, 336 electoral vo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Election of 1904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77" name="Picture 4" descr="DIVI7233TB2301"/>
          <p:cNvPicPr/>
          <p:nvPr/>
        </p:nvPicPr>
        <p:blipFill>
          <a:blip r:embed="rId1"/>
          <a:srcRect l="0" t="15868" r="0" b="2510"/>
          <a:stretch/>
        </p:blipFill>
        <p:spPr>
          <a:xfrm>
            <a:off x="762120" y="2438280"/>
            <a:ext cx="7696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gulating the Railroad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52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3: Elkins Act prohibited railroad rebates, strengthened Interstate Commerce Com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spread popular demand for further railroad regulation after Roosevelt’s re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6: Hepburn Act further strengthened Interstate Commerce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from five to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fix reasonable maximum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isdiction broadened to include oil pipeline, express, sleeping ca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leaning Up Food and Drug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on Sinclair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Ju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906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pted federal investigation of meatpac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6: Meat Inspec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rules for sanitary meatp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government inspection of meat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uel Hopkins Adams exposed dangers of patent medi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06: Pure Food and Drug A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manufacturers to list certain ingred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manufacture and sale of adulterated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onserving the Land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rst comprehensive national conservation polic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osevelt worked with Gifford Pinchot, chief of Forest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cy defined “conservation” as wise use of natur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uadrupled acreage under federal prot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ational Parks and Fores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85" name="Picture 4" descr="DIVI7233498"/>
          <p:cNvPicPr/>
          <p:nvPr/>
        </p:nvPicPr>
        <p:blipFill>
          <a:blip r:embed="rId1"/>
          <a:stretch/>
        </p:blipFill>
        <p:spPr>
          <a:xfrm>
            <a:off x="762120" y="2057400"/>
            <a:ext cx="7696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Rise of the Profession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ions bulwarks of Progressiv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fessionalism strengthened through entrance exams, national associatio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Conserving the Land (2)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’s challeng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ked “malefactors of great wealth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ticized conservatism of federal cou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itated for pro-labor legisl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pular respons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leaders blamed for financial pa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whelming majority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Ordeal of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illiam Howard Taf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: Abled administrator, poor presid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onservative Republicans resurg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 lost support of Progressiv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Election of 1908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93" name="Picture 4" descr="DIVI7233TB2302"/>
          <p:cNvPicPr/>
          <p:nvPr/>
        </p:nvPicPr>
        <p:blipFill>
          <a:blip r:embed="rId1"/>
          <a:srcRect l="0" t="16130" r="0" b="0"/>
          <a:stretch/>
        </p:blipFill>
        <p:spPr>
          <a:xfrm>
            <a:off x="762120" y="2438280"/>
            <a:ext cx="7696080" cy="27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Party Insurgency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riff split Republican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essives:  high tariff favored tru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ervatives:  high tariff protected 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09 Payne-Aldrich Act provoked Progressives to break with Taf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Ballinger-Pinchot Affair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ifford Pinchot leading conservationist, Roosevelt appointe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inchot accused Interior Secretary Richard Ballinger of selling public lands to friend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 fired Pincho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s antagoniz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aft Alienates the Progressive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0: Taft successfully pushed Mann-Elkins Act to strengthen IC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owers ICC to fix railroad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 Republicans attacked Taft’s plan of a Commerce Court to hear ICC app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ives obstructed Taft’s negot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0: Taft attacked Progressive Republicans, Democrats gained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aft Alienates the Progressives 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gislation protecting labor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eenth Amendment created income ta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 a greater trustbuster than Roosevel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aft, Roosevelt attackd one another publicl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2: Taft renominated by Republicans, little chance for victor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7165800" y="925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Differing Philosophies in the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Election of 1912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oosevelt: Progressive ("Bull Moose")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ationalism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regulation of econom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steful competition replaced by effici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odrow Wilson: Democr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New Freedom" for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rain big business, govern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mocrats won White House, Congres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DIVI7233502"/>
          <p:cNvPicPr/>
          <p:nvPr/>
        </p:nvPicPr>
        <p:blipFill>
          <a:blip r:embed="rId1"/>
          <a:stretch/>
        </p:blipFill>
        <p:spPr>
          <a:xfrm>
            <a:off x="2209680" y="457200"/>
            <a:ext cx="4829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odrow Wilson's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Freedo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odrow Wilson: Former president of Princeton, governor of New Jerse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essive, intellectual, inspiring orato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ne of America's most effective presiden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Social-Justice Movement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ers forsook individualized reform to address larger structural proble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pplied scientific methods to social re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ial work became a profess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4864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New Freedom in Action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3: Underwood Tariff cut duti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3: Federal Reserve Act reformed banks, established stable currency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4: Clayton Antitrust Act outlawed unfair trade practices, protected un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4: Federal Trade Commiss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Freedom in Action: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Retreating from Refor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vember, 1914: Wilson announces "New Freedom" has been achiev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was “a time of healing because a time of just dealing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tatement stunned many progressive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ilson Moves Toward the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National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asons for the mov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racted by the outbreak of war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ed conservative Southern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ublicans seemed to gain by attacking hi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6: Presidential elec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ilson Moves Toward the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New National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lson renewed reform in reelection bi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deral Farm Loan 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vened in strikes on behalf of 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empted to ban child lab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income taxes on the ri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ed women’s suffr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gram won Wilson a close election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Fruits of the Progressivism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form of government at all level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ntelligent planning of re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rld War I ends Progressive optimis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The Purity Crusade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5960" y="2217600"/>
            <a:ext cx="7481880" cy="490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usade against vic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1: Membership in Women's Christian Temperance Union hit 250,0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16: 19 states prohibit alcoh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20: Eighteenth Amendment prohibits alcoho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rohibition%20raid"/>
          <p:cNvPicPr/>
          <p:nvPr/>
        </p:nvPicPr>
        <p:blipFill>
          <a:blip r:embed="rId1"/>
          <a:stretch/>
        </p:blipFill>
        <p:spPr>
          <a:xfrm>
            <a:off x="1143000" y="447840"/>
            <a:ext cx="6858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an Suffrage,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an's Righ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omen filled Progressive rank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Conference of Social 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 Federation of Women's Club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890: National American Woman Suffrage Association form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920: Nineteenth Amendment pass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ffrage seen as empowering women to benefit the disadvantage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an Suffrage, Woman's Rights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olitically active women push reforms of social justice mov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ximum number of working hours for women in 39 states by 191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33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Keating-Owen Act 1916 limited child labor, but was declared unconstitutional in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Hammer v. Dagenhar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Tahoma"/>
              </a:rPr>
              <a:t>Women’s Suffrage Before 1900</a:t>
            </a:r>
            <a:endParaRPr b="0" lang="en-US" sz="3300" spc="-1" strike="noStrike">
              <a:solidFill>
                <a:srgbClr val="336666"/>
              </a:solidFill>
              <a:latin typeface="Tahoma"/>
            </a:endParaRPr>
          </a:p>
        </p:txBody>
      </p:sp>
      <p:pic>
        <p:nvPicPr>
          <p:cNvPr id="117" name="Picture 4" descr="DIVI7233490"/>
          <p:cNvPicPr/>
          <p:nvPr/>
        </p:nvPicPr>
        <p:blipFill>
          <a:blip r:embed="rId1"/>
          <a:stretch/>
        </p:blipFill>
        <p:spPr>
          <a:xfrm>
            <a:off x="2319480" y="1905120"/>
            <a:ext cx="43542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5:42:53Z</dcterms:created>
  <dc:creator>HstM3</dc:creator>
  <dc:description/>
  <cp:keywords/>
  <dc:language>en-US</dc:language>
  <cp:lastModifiedBy>Matthew Myers</cp:lastModifiedBy>
  <cp:lastPrinted>2008-10-28T12:28:58Z</cp:lastPrinted>
  <dcterms:modified xsi:type="dcterms:W3CDTF">2011-01-25T16:13:57Z</dcterms:modified>
  <cp:revision>11</cp:revision>
  <dc:subject/>
  <dc:title>FROM ROOSEVELT TO WILSON IN THE AGE OF PROGRESSIVISM</dc:title>
</cp:coreProperties>
</file>